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7D8C-607D-4317-AC72-08A5729BC7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610-7C50-4F67-8F32-49C7773D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298-BB5E-4D52-A2AC-BB476777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000-F877-4774-A586-B459C462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969-E70E-4A5F-A743-64F21BDE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87BE-F31C-49BF-8E6D-7FBC03C7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F773-FBD1-4FD9-A465-0E83B2D4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8F9E-C9EE-4CC4-A5D1-F5BD3370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419B-5827-44FE-B445-CA91D28F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CEA1-689B-4D64-B93C-4EDD12B9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A311-7829-48EB-85AD-B21FFB18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DF2E-9D6B-41D2-ACFA-88FB8779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37E-8384-4136-A691-D90C1F24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FE46-9A1F-4722-B91E-5BFA6084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0A00-0533-4092-BAB0-FC395BD9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4D50-1CA6-481B-901B-F9658789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D5A7-1983-4A35-86EA-7A393C72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6EC1-5729-4CBC-8118-FA143377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E3D-2FEE-4D2B-9783-E80B37EF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019-8A3E-43A3-A3E1-4228A0D0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A32-948C-4152-9859-D4E44D47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6B2-AD27-44D0-9DDE-4D8D34B3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2E6-C295-47C6-8102-EEC610F7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85C-CB74-4C50-81F6-7A8A73B5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FCB-D7C0-4195-ADA2-3FC4A460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82D0-5BE7-4606-9A60-BC10DFED28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A179-493B-4773-B5B7-AC3E6D64F6A3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700" spc="-1" strike="noStrike">
                <a:solidFill>
                  <a:srgbClr val="ffffcc"/>
                </a:solidFill>
                <a:latin typeface="Arial"/>
              </a:rPr>
              <a:t>DNA Profiling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aeaea"/>
                </a:solidFill>
                <a:latin typeface="Verdana"/>
              </a:rPr>
              <a:t>(DNA fingerprinting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Stage 4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pattern of fragment distribution is then analys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Us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DNA profiling is used to solve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crimes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medical proble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MCIN01111_0000[1]"/>
          <p:cNvPicPr/>
          <p:nvPr/>
        </p:nvPicPr>
        <p:blipFill>
          <a:blip r:embed="rId1"/>
          <a:stretch/>
        </p:blipFill>
        <p:spPr>
          <a:xfrm>
            <a:off x="5219640" y="1773360"/>
            <a:ext cx="3600360" cy="29844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Cri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orensic science is the use of scientific knowledge in legal situ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DNA profile of each individual is highly specifi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chances of two people having </a:t>
            </a:r>
            <a:r>
              <a:rPr b="0" lang="en-IE" sz="3200" spc="-1" strike="noStrike" u="sng">
                <a:solidFill>
                  <a:srgbClr val="eaeaea"/>
                </a:solidFill>
                <a:uFillTx/>
                <a:latin typeface="Verdana"/>
              </a:rPr>
              <a:t>exactly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the same DNA profile is 30,000 million to 1 (except for identical twins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Biological materials used for DNA profil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lo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Ha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ali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em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ody tissue c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DNA samples have been obtained from vaginal cells transferred to the outside of a condom during sexual intercours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blood sample"/>
          <p:cNvPicPr/>
          <p:nvPr/>
        </p:nvPicPr>
        <p:blipFill>
          <a:blip r:embed="rId1"/>
          <a:stretch/>
        </p:blipFill>
        <p:spPr>
          <a:xfrm>
            <a:off x="5364000" y="1628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swab"/>
          <p:cNvPicPr/>
          <p:nvPr/>
        </p:nvPicPr>
        <p:blipFill>
          <a:blip r:embed="rId2"/>
          <a:stretch/>
        </p:blipFill>
        <p:spPr>
          <a:xfrm>
            <a:off x="5508720" y="4076640"/>
            <a:ext cx="2663640" cy="2160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DNA Profiling can solve crim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attern of the DNA profile is then compared with those of the victim and the suspec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matches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the suspect it provides strong evidence that the suspect was present at the crime scene (</a:t>
            </a: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NB:it does not prove they committed the crime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doesn’t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match the suspect then that suspect may be eliminated from the enqui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violent murder occurre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forensics team retrieved a blood sample from the crime scen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y prepared DNA profiles of the blood sample, the victim and a suspect as follow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Was the suspect at the crime scen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619280" y="1844640"/>
            <a:ext cx="6408720" cy="424836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0800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Suspect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51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Blood sample from crime scen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372360" y="21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Victim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197964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92436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227640" y="378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050920" y="393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050920" y="4076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924360" y="393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924360" y="407664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6372360" y="472428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6372360" y="4869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050920" y="4653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2050920" y="522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050920" y="537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6227640" y="3284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050920" y="5877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3995640" y="537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399564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3924360" y="4653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637236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6443640" y="5877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3995640" y="5805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olving Medical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profiles can be used to determine whether a particular person is the parent of a chi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childs paternity (father) and maternity(mother) can be determ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information can be used 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Paternity su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heritance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mmigration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: A Paternity T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By comparing the DNA profile of 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other and her child it is possible 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identify DNA fragments in the chil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which are absent from the mother an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ust therefore have been inherite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rom the biological fa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Is this man the father of the child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76360" y="1700280"/>
            <a:ext cx="6335640" cy="44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76364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oth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708360" y="19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Chil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940360" y="19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90800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90800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63528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63528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96000" y="26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63528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579600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1908000" y="4221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70836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9600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70836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183528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5796000" y="51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1835280" y="5373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1835280" y="5445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3708360" y="57340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5796000" y="580536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5796000" y="33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5796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1908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at is DNA Profil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technique used by scientists to distinguish between individuals of the same species using only samples of their D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 2002 Elizabeth Hurley used DNA profiling to prove that Steve Bing was the father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f her child Dam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9" descr="liz hurley steve bing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Colin Pitchfork was the first criminal caught based on DNA fingerprinting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arrested in 1986 for the rape and murder of two girls and was sentenced in 1988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Colin_Pitchfork"/>
          <p:cNvPicPr/>
          <p:nvPr/>
        </p:nvPicPr>
        <p:blipFill>
          <a:blip r:embed="rId1"/>
          <a:stretch/>
        </p:blipFill>
        <p:spPr>
          <a:xfrm>
            <a:off x="5076720" y="177336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.J. Simpson was cleared of a double murder charge in 1994 which relied heavily on DNA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case highlighted lab difficult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9" descr="O_J_Simpson"/>
          <p:cNvPicPr/>
          <p:nvPr/>
        </p:nvPicPr>
        <p:blipFill>
          <a:blip r:embed="rId1"/>
          <a:stretch/>
        </p:blipFill>
        <p:spPr>
          <a:xfrm>
            <a:off x="5076720" y="1700280"/>
            <a:ext cx="3672000" cy="3708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o Invented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rocess of DNA fingerprinting was invented by Alec Jeffreys at the University of Leicester in 1985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knighted in 199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9" descr="alec Jeffreys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age 1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Cells are broken dow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o release D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If only a small amount of DNA is available it can be amplified using the polymerase chain reaction (PC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body cells"/>
          <p:cNvPicPr/>
          <p:nvPr/>
        </p:nvPicPr>
        <p:blipFill>
          <a:blip r:embed="rId1"/>
          <a:stretch/>
        </p:blipFill>
        <p:spPr>
          <a:xfrm>
            <a:off x="5292720" y="1844640"/>
            <a:ext cx="3382920" cy="3816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ep 2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he DNA is cut into fragments using </a:t>
            </a: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restriction enzymes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Each restriction enzyme cuts DNA at a specific base sequen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11" descr="Restriction_enzyme"/>
          <p:cNvPicPr/>
          <p:nvPr/>
        </p:nvPicPr>
        <p:blipFill>
          <a:blip r:embed="rId1"/>
          <a:stretch/>
        </p:blipFill>
        <p:spPr>
          <a:xfrm>
            <a:off x="900000" y="4221000"/>
            <a:ext cx="7488360" cy="1513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sections of DNA that are cut out are calle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restriction fragment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Stage 3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Fragments are separated on the basis of size using a process called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gel electrophoresi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fragments are injected into wells and an electric current is applied along the gel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agarose gel elcctrophoresis"/>
          <p:cNvPicPr/>
          <p:nvPr/>
        </p:nvPicPr>
        <p:blipFill>
          <a:blip r:embed="rId1"/>
          <a:stretch/>
        </p:blipFill>
        <p:spPr>
          <a:xfrm>
            <a:off x="4716360" y="1700280"/>
            <a:ext cx="4025880" cy="4249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negatively charged so it is attracted to the positive end of the ge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shorter DNA fragments move faster than the longer fragment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separated on basis of siz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8" descr="agarose gel electrophoresis 2"/>
          <p:cNvPicPr/>
          <p:nvPr/>
        </p:nvPicPr>
        <p:blipFill>
          <a:blip r:embed="rId1"/>
          <a:stretch/>
        </p:blipFill>
        <p:spPr>
          <a:xfrm>
            <a:off x="4762440" y="1628640"/>
            <a:ext cx="3986280" cy="4243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radioactive material is added which combines with the DNA fragments to produce a fluorescent imag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photographic copy of the DNA bands is obta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8" descr="DNA bands photo"/>
          <p:cNvPicPr/>
          <p:nvPr/>
        </p:nvPicPr>
        <p:blipFill>
          <a:blip r:embed="rId1"/>
          <a:stretch/>
        </p:blipFill>
        <p:spPr>
          <a:xfrm>
            <a:off x="5219640" y="1773360"/>
            <a:ext cx="3456000" cy="3887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5:37:53Z</dcterms:created>
  <dc:creator>nctcc</dc:creator>
  <dc:description/>
  <dc:language>en-US</dc:language>
  <cp:lastModifiedBy>LEGION2</cp:lastModifiedBy>
  <dcterms:modified xsi:type="dcterms:W3CDTF">2016-01-12T10:27:19Z</dcterms:modified>
  <cp:revision>18</cp:revision>
  <dc:subject/>
  <dc:title>Gel Electrophoresis</dc:title>
</cp:coreProperties>
</file>